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1c1c1c"/>
                </a:solidFill>
                <a:latin typeface="Times New Roman"/>
              </a:rPr>
              <a:t>Click to move the slide</a:t>
            </a: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A8FECAC-C28D-41E8-A6BE-430EA0D6E2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9DB71B4-924D-460C-B1B9-8A78843012C9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248FE36-499F-42EF-9F22-7610B5C18FEF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CC7A472-63E0-49DC-A381-C41223DF5C19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76B0578-C149-415B-8F1E-640AAFEC648B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550EDAE-7301-4B3F-9B77-227FCC781CAB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83DD-56B5-4D50-AD4A-E42A9ABF0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6D34-BC13-422B-B0BF-5BB67A8F9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D431-70E3-4AE6-8A6B-3C54901DD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F47D-2840-4C02-AF47-7278509D8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A7CC7-2098-4035-A613-02CB9B5FB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6A2D3-DD3E-4648-B7B7-6BFEA5E64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FD91D-7593-4FBB-9268-1F00F03BB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41DDE-20CE-454D-B2C8-FA4E63929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89437-5975-4FC7-B6EB-51CF7CA60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61920" y="1925640"/>
            <a:ext cx="777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0FF36-C08E-4081-9CC1-AC796E898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9E50B-A147-43FB-83B2-44FBE4E18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80B9-1A0D-4387-B2BC-682D49ED2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ECE54-6EBE-431F-8238-529A61C44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CB681-CC98-464A-99F2-672F5FB39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AD251-7A83-4FF3-A80D-959DAC385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DD947-4624-433A-9ECB-8A14DCF43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36AC4-E9CE-4A41-89F3-0C0D55098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078F4-943E-4212-A660-6F1449213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B12BE-CD96-4421-8D1C-3EFEE253B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2F7B1-A88F-4D11-B0B3-14CC11B46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C957D-A131-4574-A948-2F295D764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21C54-BC7A-4F41-8DFE-0E8E2181E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46F0-86D6-4850-BF94-E87996BCC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961920" y="1925640"/>
            <a:ext cx="777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411A5-19BA-4D47-A334-95588482C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F7D2B-7F83-4F18-8CBE-A2E009A86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4A1AB-876D-4EA5-B3AA-151199804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DB5D2-B3ED-483D-BA27-7471019BE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4C5F6-0560-4C3B-8E35-18187E01A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1AF82-37A6-4F0E-9C48-F5AB6A704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83230-8238-4B5D-A1DE-88E789E4F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664D-3240-4BC0-BA8A-1E5AB55AB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97BC-C831-4331-8741-82DF02D3D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61920" y="1925640"/>
            <a:ext cx="777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BA83-0A3A-4940-A423-6FD016F15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C0AC-C54A-44D3-9AB8-AD6D3770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168F-FEAF-47CC-9C19-9BAEAC630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BB91-7D02-4163-A879-6CE600760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200" cy="6857640"/>
            <a:chOff x="0" y="0"/>
            <a:chExt cx="8872200" cy="685764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8680" cy="6391080"/>
            </a:xfrm>
            <a:prstGeom prst="rect">
              <a:avLst/>
            </a:pr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c1c1c"/>
                </a:solidFill>
                <a:latin typeface="Times New Roman"/>
              </a:endParaRPr>
            </a:p>
          </p:txBody>
        </p:sp>
        <p:pic>
          <p:nvPicPr>
            <p:cNvPr id="2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440" cy="685764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6840" cy="360"/>
            </a:xfrm>
            <a:prstGeom prst="line">
              <a:avLst/>
            </a:prstGeom>
            <a:ln w="3175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Times New Roman"/>
              </a:endParaRPr>
            </a:p>
          </p:txBody>
        </p:sp>
      </p:grpSp>
      <p:grpSp>
        <p:nvGrpSpPr>
          <p:cNvPr id="4" name="Group 2"/>
          <p:cNvGrpSpPr/>
          <p:nvPr/>
        </p:nvGrpSpPr>
        <p:grpSpPr>
          <a:xfrm>
            <a:off x="0" y="0"/>
            <a:ext cx="8872200" cy="6857640"/>
            <a:chOff x="0" y="0"/>
            <a:chExt cx="8872200" cy="6857640"/>
          </a:xfrm>
        </p:grpSpPr>
        <p:sp>
          <p:nvSpPr>
            <p:cNvPr id="5" name="Rectangle 3"/>
            <p:cNvSpPr/>
            <p:nvPr/>
          </p:nvSpPr>
          <p:spPr>
            <a:xfrm>
              <a:off x="533520" y="237960"/>
              <a:ext cx="8338680" cy="63910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tl"/>
            </a:blip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c1c1c"/>
                </a:solidFill>
                <a:latin typeface="Times New Roman"/>
              </a:endParaRPr>
            </a:p>
          </p:txBody>
        </p:sp>
        <p:pic>
          <p:nvPicPr>
            <p:cNvPr id="6" name="Picture 4" descr="minispir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063440" cy="6857640"/>
            </a:xfrm>
            <a:prstGeom prst="rect">
              <a:avLst/>
            </a:prstGeom>
            <a:ln w="9525">
              <a:noFill/>
            </a:ln>
          </p:spPr>
        </p:pic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Master title style</a:t>
            </a:r>
            <a:endParaRPr b="0" lang="en-US" sz="4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spcBef>
                <a:spcPts val="700"/>
              </a:spcBef>
              <a:buNone/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700"/>
              </a:spcBef>
              <a:buNone/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400560" y="61009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6829560" y="61009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spcBef>
                <a:spcPts val="700"/>
              </a:spcBef>
              <a:buNone/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00"/>
              </a:spcBef>
              <a:buNone/>
            </a:pPr>
            <a:fld id="{4B3F1BD2-DFCA-4DBA-BD17-7FA71AB94D4A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1" marL="864000" indent="-324000" algn="r" rtl="1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  <a:p>
            <a:pPr lvl="2" marL="1296000" indent="-288000" algn="r" rtl="1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1c1c1c"/>
              </a:solidFill>
              <a:latin typeface="Times New Roman"/>
            </a:endParaRPr>
          </a:p>
          <a:p>
            <a:pPr lvl="3" marL="1728000" indent="-216000" algn="r" rtl="1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1c1c1c"/>
              </a:solidFill>
              <a:latin typeface="Times New Roman"/>
            </a:endParaRPr>
          </a:p>
          <a:p>
            <a:pPr lvl="4" marL="2160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1c1c1c"/>
              </a:solidFill>
              <a:latin typeface="Times New Roman"/>
            </a:endParaRPr>
          </a:p>
          <a:p>
            <a:pPr lvl="5" marL="2592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1c1c1c"/>
              </a:solidFill>
              <a:latin typeface="Times New Roman"/>
            </a:endParaRPr>
          </a:p>
          <a:p>
            <a:pPr lvl="6" marL="3024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872200" cy="6857640"/>
            <a:chOff x="0" y="0"/>
            <a:chExt cx="8872200" cy="6857640"/>
          </a:xfrm>
        </p:grpSpPr>
        <p:sp>
          <p:nvSpPr>
            <p:cNvPr id="49" name="Rectangle 3"/>
            <p:cNvSpPr/>
            <p:nvPr/>
          </p:nvSpPr>
          <p:spPr>
            <a:xfrm>
              <a:off x="533520" y="237960"/>
              <a:ext cx="8338680" cy="6391080"/>
            </a:xfrm>
            <a:prstGeom prst="rect">
              <a:avLst/>
            </a:pr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c1c1c"/>
                </a:solidFill>
                <a:latin typeface="Times New Roman"/>
              </a:endParaRPr>
            </a:p>
          </p:txBody>
        </p:sp>
        <p:pic>
          <p:nvPicPr>
            <p:cNvPr id="50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440" cy="685764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51" name="Line 5"/>
            <p:cNvSpPr/>
            <p:nvPr/>
          </p:nvSpPr>
          <p:spPr>
            <a:xfrm>
              <a:off x="1015920" y="1600200"/>
              <a:ext cx="7746840" cy="360"/>
            </a:xfrm>
            <a:prstGeom prst="line">
              <a:avLst/>
            </a:prstGeom>
            <a:ln w="3175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dt" idx="4"/>
          </p:nvPr>
        </p:nvSpPr>
        <p:spPr>
          <a:xfrm>
            <a:off x="990720" y="609588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spcBef>
                <a:spcPts val="700"/>
              </a:spcBef>
              <a:buNone/>
              <a:defRPr b="0" lang="en-US" sz="1400" spc="-1" strike="noStrike">
                <a:solidFill>
                  <a:srgbClr val="6666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700"/>
              </a:spcBef>
              <a:buNone/>
            </a:pPr>
            <a:r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ftr" idx="5"/>
          </p:nvPr>
        </p:nvSpPr>
        <p:spPr>
          <a:xfrm>
            <a:off x="3429000" y="609588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6"/>
          </p:nvPr>
        </p:nvSpPr>
        <p:spPr>
          <a:xfrm>
            <a:off x="6858000" y="609588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spcBef>
                <a:spcPts val="700"/>
              </a:spcBef>
              <a:buNone/>
              <a:defRPr b="0" lang="en-US" sz="1400" spc="-1" strike="noStrike">
                <a:solidFill>
                  <a:srgbClr val="66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00"/>
              </a:spcBef>
              <a:buNone/>
            </a:pPr>
            <a:fld id="{EC654C0F-F2A4-4516-BB7F-EBA37BBD6D6D}" type="slidenum"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1c1c1c"/>
                </a:solidFill>
                <a:latin typeface="Times New Roman"/>
              </a:rPr>
              <a:t>Click to edit the title text format</a:t>
            </a: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1" marL="864000" indent="-324000" algn="r" rtl="1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  <a:p>
            <a:pPr lvl="2" marL="1296000" indent="-288000" algn="r" rtl="1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1c1c1c"/>
              </a:solidFill>
              <a:latin typeface="Times New Roman"/>
            </a:endParaRPr>
          </a:p>
          <a:p>
            <a:pPr lvl="3" marL="1728000" indent="-216000" algn="r" rtl="1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1c1c1c"/>
              </a:solidFill>
              <a:latin typeface="Times New Roman"/>
            </a:endParaRPr>
          </a:p>
          <a:p>
            <a:pPr lvl="4" marL="2160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1c1c1c"/>
              </a:solidFill>
              <a:latin typeface="Times New Roman"/>
            </a:endParaRPr>
          </a:p>
          <a:p>
            <a:pPr lvl="5" marL="2592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1c1c1c"/>
              </a:solidFill>
              <a:latin typeface="Times New Roman"/>
            </a:endParaRPr>
          </a:p>
          <a:p>
            <a:pPr lvl="6" marL="3024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872200" cy="6857640"/>
            <a:chOff x="0" y="0"/>
            <a:chExt cx="8872200" cy="6857640"/>
          </a:xfrm>
        </p:grpSpPr>
        <p:sp>
          <p:nvSpPr>
            <p:cNvPr id="94" name="Rectangle 3"/>
            <p:cNvSpPr/>
            <p:nvPr/>
          </p:nvSpPr>
          <p:spPr>
            <a:xfrm>
              <a:off x="533520" y="237960"/>
              <a:ext cx="8338680" cy="6391080"/>
            </a:xfrm>
            <a:prstGeom prst="rect">
              <a:avLst/>
            </a:pr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c1c1c"/>
                </a:solidFill>
                <a:latin typeface="Times New Roman"/>
              </a:endParaRPr>
            </a:p>
          </p:txBody>
        </p:sp>
        <p:pic>
          <p:nvPicPr>
            <p:cNvPr id="95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440" cy="685764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96" name="Line 5"/>
            <p:cNvSpPr/>
            <p:nvPr/>
          </p:nvSpPr>
          <p:spPr>
            <a:xfrm>
              <a:off x="1015920" y="1600200"/>
              <a:ext cx="7746840" cy="360"/>
            </a:xfrm>
            <a:prstGeom prst="line">
              <a:avLst/>
            </a:prstGeom>
            <a:ln w="3175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Times New Roman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Master title style</a:t>
            </a:r>
            <a:endParaRPr b="0" lang="en-US" sz="4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 algn="r" rtl="1">
              <a:lnSpc>
                <a:spcPct val="100000"/>
              </a:lnSpc>
              <a:spcBef>
                <a:spcPts val="641"/>
              </a:spcBef>
              <a:buClr>
                <a:srgbClr val="ff5050"/>
              </a:buClr>
              <a:buSzPct val="90000"/>
              <a:buFont typeface="Monotype Sorts" charset="2"/>
              <a:buChar char=""/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Click to edit Master text styles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561"/>
              </a:spcBef>
              <a:buClr>
                <a:srgbClr val="ff5050"/>
              </a:buClr>
              <a:buFont typeface="Symbol" charset="2"/>
              <a:buChar char=""/>
            </a:pPr>
            <a:r>
              <a:rPr b="0" lang="en-US" sz="2800" spc="-1" strike="noStrike">
                <a:solidFill>
                  <a:srgbClr val="1c1c1c"/>
                </a:solidFill>
                <a:latin typeface="Times New Roman"/>
              </a:rPr>
              <a:t>Second level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lvl="2" marL="1143000" indent="-228600" algn="r" rtl="1">
              <a:lnSpc>
                <a:spcPct val="100000"/>
              </a:lnSpc>
              <a:spcBef>
                <a:spcPts val="479"/>
              </a:spcBef>
              <a:buClr>
                <a:srgbClr val="ff505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Third level</a:t>
            </a: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  <a:p>
            <a:pPr lvl="3" marL="1600200" indent="-228600" algn="r" rtl="1">
              <a:lnSpc>
                <a:spcPct val="100000"/>
              </a:lnSpc>
              <a:spcBef>
                <a:spcPts val="400"/>
              </a:spcBef>
              <a:buClr>
                <a:srgbClr val="ff5050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</a:rPr>
              <a:t>Fourth level</a:t>
            </a:r>
            <a:endParaRPr b="0" lang="en-US" sz="2000" spc="-1" strike="noStrike">
              <a:solidFill>
                <a:srgbClr val="1c1c1c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00"/>
              </a:spcBef>
              <a:buClr>
                <a:srgbClr val="ff5050"/>
              </a:buClr>
              <a:buFont typeface="StarSymbol"/>
              <a:buChar char="»"/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</a:rPr>
              <a:t>Fifth level</a:t>
            </a:r>
            <a:endParaRPr b="0" lang="en-US" sz="20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990720" y="609588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spcBef>
                <a:spcPts val="700"/>
              </a:spcBef>
              <a:buNone/>
              <a:defRPr b="0" lang="en-US" sz="1400" spc="-1" strike="noStrike">
                <a:solidFill>
                  <a:srgbClr val="6666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700"/>
              </a:spcBef>
              <a:buNone/>
            </a:pPr>
            <a:r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429000" y="609588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858000" y="609588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spcBef>
                <a:spcPts val="700"/>
              </a:spcBef>
              <a:buNone/>
              <a:defRPr b="0" lang="en-US" sz="1400" spc="-1" strike="noStrike">
                <a:solidFill>
                  <a:srgbClr val="66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00"/>
              </a:spcBef>
              <a:buNone/>
            </a:pPr>
            <a:fld id="{D508BB91-9184-4D58-8513-2C808DC90CCD}" type="slidenum"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mailto:0ns20@yahoo.com" TargetMode="External"/><Relationship Id="rId2" Type="http://schemas.openxmlformats.org/officeDocument/2006/relationships/hyperlink" Target="mailto:Mdamavandi@Srttu.Edu.ir" TargetMode="External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il_fi" descr="http://ketabak.org/tarvij/sites/default/files/imagecache/nc_image/tarvij/article/201112/making-list-0808-lg-5041854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45" name="Title 1"/>
          <p:cNvSpPr/>
          <p:nvPr/>
        </p:nvSpPr>
        <p:spPr>
          <a:xfrm rot="20127600">
            <a:off x="1520640" y="2415960"/>
            <a:ext cx="2285640" cy="7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40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  <a:cs typeface="B Mitra"/>
              </a:rPr>
              <a:t>به نام خدا</a:t>
            </a:r>
            <a:r>
              <a:rPr b="1" lang="en-US" sz="40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itle 1"/>
          <p:cNvSpPr/>
          <p:nvPr/>
        </p:nvSpPr>
        <p:spPr>
          <a:xfrm rot="19945200">
            <a:off x="2325600" y="2568600"/>
            <a:ext cx="497160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00000"/>
              </a:lnSpc>
            </a:pPr>
            <a:r>
              <a:rPr b="1" lang="en-US" sz="2800" spc="-1" strike="noStrike">
                <a:solidFill>
                  <a:srgbClr val="000033"/>
                </a:solidFill>
                <a:latin typeface="Times New Roman"/>
              </a:rPr>
              <a:t>     کارگاه روش شناسی تحقی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</a:pPr>
            <a:r>
              <a:rPr b="1" lang="fa-IR" sz="2800" spc="-1" strike="noStrike">
                <a:solidFill>
                  <a:srgbClr val="000033"/>
                </a:solidFill>
                <a:latin typeface="Times New Roman"/>
                <a:cs typeface="B Koodak"/>
              </a:rPr>
              <a:t>دانشگاه فرهنگیا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</a:pPr>
            <a:r>
              <a:rPr b="1" lang="fa-IR" sz="2800" spc="-1" strike="noStrike">
                <a:solidFill>
                  <a:srgbClr val="000033"/>
                </a:solidFill>
                <a:latin typeface="Times New Roman"/>
                <a:cs typeface="B Koodak"/>
              </a:rPr>
              <a:t>همایش پوی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1100" spc="-1" strike="noStrike">
                <a:solidFill>
                  <a:srgbClr val="000033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33"/>
                </a:solidFill>
                <a:latin typeface="Times New Roman"/>
              </a:rPr>
              <a:t>93/11/11</a:t>
            </a:r>
            <a:r>
              <a:rPr b="1" lang="fa-IR" sz="2800" spc="-1" strike="noStrike">
                <a:solidFill>
                  <a:srgbClr val="000033"/>
                </a:solidFill>
                <a:latin typeface="Times New Roman"/>
                <a:cs typeface="B Koodak"/>
              </a:rPr>
              <a:t>،</a:t>
            </a:r>
            <a:r>
              <a:rPr b="1" lang="en-US" sz="2800" spc="-1" strike="noStrike">
                <a:solidFill>
                  <a:srgbClr val="000033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</a:tabLst>
            </a:pPr>
            <a:r>
              <a:rPr b="1" lang="fa-IR" sz="2800" spc="-1" strike="noStrike">
                <a:solidFill>
                  <a:srgbClr val="000033"/>
                </a:solidFill>
                <a:latin typeface="Times New Roman"/>
                <a:cs typeface="B Koodak"/>
              </a:rPr>
              <a:t>مجید  ابراهیم دماوند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itle 1"/>
          <p:cNvSpPr/>
          <p:nvPr/>
        </p:nvSpPr>
        <p:spPr>
          <a:xfrm>
            <a:off x="5000760" y="620640"/>
            <a:ext cx="3142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نظریه :</a:t>
            </a:r>
            <a:r>
              <a:rPr b="1" lang="fa-IR" sz="2400" spc="-1" strike="noStrike">
                <a:solidFill>
                  <a:srgbClr val="c00000"/>
                </a:solidFill>
                <a:latin typeface="Times New Roman"/>
                <a:cs typeface="B Mitra"/>
              </a:rPr>
              <a:t>ویژگی ه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itle 1"/>
          <p:cNvSpPr/>
          <p:nvPr/>
        </p:nvSpPr>
        <p:spPr>
          <a:xfrm>
            <a:off x="1115640" y="1380600"/>
            <a:ext cx="7500600" cy="50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مولد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1" lang="fa-IR" sz="1800" spc="-1" strike="noStrike">
                <a:solidFill>
                  <a:srgbClr val="1c1c1c"/>
                </a:solidFill>
                <a:latin typeface="Times New Roman"/>
                <a:cs typeface="B Mitra"/>
              </a:rPr>
              <a:t>موجب انجام پژوهشهای بسیار و پیشبردعلم است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موجز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1" lang="fa-IR" sz="1800" spc="-1" strike="noStrike">
                <a:solidFill>
                  <a:srgbClr val="1c1c1c"/>
                </a:solidFill>
                <a:latin typeface="Times New Roman"/>
                <a:cs typeface="B Mitra"/>
              </a:rPr>
              <a:t>پدیده ها باروشی ساده و مستقیم تبیین میشوند. نظریه های ساده تر اولویت دارند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جامع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1" lang="fa-IR" sz="1800" spc="-1" strike="noStrike">
                <a:solidFill>
                  <a:srgbClr val="1c1c1c"/>
                </a:solidFill>
                <a:latin typeface="Times New Roman"/>
                <a:cs typeface="B Mitra"/>
              </a:rPr>
              <a:t>در دوره های زمانی مختلف ، مناطق جغرافیایی متفاوت ، بافت های اجتماع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en-US" sz="18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1" lang="fa-IR" sz="1800" spc="-1" strike="noStrike">
                <a:solidFill>
                  <a:srgbClr val="1c1c1c"/>
                </a:solidFill>
                <a:latin typeface="Times New Roman"/>
                <a:cs typeface="B Mitra"/>
              </a:rPr>
              <a:t>و فرهنگی گوناگون توان تبیین دارد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واضح وصریح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1" lang="fa-IR" sz="1800" spc="-1" strike="noStrike">
                <a:solidFill>
                  <a:srgbClr val="1c1c1c"/>
                </a:solidFill>
                <a:latin typeface="Times New Roman"/>
                <a:cs typeface="B Mitra"/>
              </a:rPr>
              <a:t>مفاهیم آن می تواند به صورت عملی تعریف شود ، قابل اندازه گیری است </a:t>
            </a:r>
            <a:r>
              <a:rPr b="1" lang="en-US" sz="18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1" lang="fa-IR" sz="1800" spc="-1" strike="noStrike">
                <a:solidFill>
                  <a:srgbClr val="1c1c1c"/>
                </a:solidFill>
                <a:latin typeface="Times New Roman"/>
                <a:cs typeface="B Mitra"/>
              </a:rPr>
              <a:t>تعاریف ناقص و مبهم در آن نیست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هماهنگ (درونی و بیرونی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en-US" sz="18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1c1c1c"/>
                </a:solidFill>
                <a:latin typeface="Times New Roman"/>
              </a:rPr>
              <a:t> سازکاری با دانش پیشین و واقعیت های مشاهده شده (بیرونی)و عدم </a:t>
            </a:r>
            <a:r>
              <a:rPr b="1" lang="en-US" sz="18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1" lang="fa-IR" sz="1800" spc="-1" strike="noStrike">
                <a:solidFill>
                  <a:srgbClr val="1c1c1c"/>
                </a:solidFill>
                <a:latin typeface="Times New Roman"/>
                <a:cs typeface="B Mitra"/>
              </a:rPr>
              <a:t>تناقض بین </a:t>
            </a:r>
            <a:r>
              <a:rPr b="1" lang="en-US" sz="18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1" lang="fa-IR" sz="1800" spc="-1" strike="noStrike">
                <a:solidFill>
                  <a:srgbClr val="1c1c1c"/>
                </a:solidFill>
                <a:latin typeface="Times New Roman"/>
                <a:cs typeface="B Mitra"/>
              </a:rPr>
              <a:t>بخش های مختلف آن ( هماهنگی درون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itle 1"/>
          <p:cNvSpPr/>
          <p:nvPr/>
        </p:nvSpPr>
        <p:spPr>
          <a:xfrm>
            <a:off x="2123640" y="78588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نظریه : </a:t>
            </a:r>
            <a:r>
              <a:rPr b="1" lang="fa-IR" sz="2400" spc="-1" strike="noStrike">
                <a:solidFill>
                  <a:srgbClr val="c00000"/>
                </a:solidFill>
                <a:latin typeface="Times New Roman"/>
                <a:cs typeface="B Mitra"/>
              </a:rPr>
              <a:t>کارکرد ه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itle 1"/>
          <p:cNvSpPr/>
          <p:nvPr/>
        </p:nvSpPr>
        <p:spPr>
          <a:xfrm>
            <a:off x="1071360" y="1428840"/>
            <a:ext cx="7500600" cy="50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توانایی توصیف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تعیین عوامل و متغیر ها درونی پدیده یا رویداد و نوع و نحوه ارتباط آنه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قدرت تبیین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توضیح نحوه و سازوکار(مکانیسم) عملکرد و تعامل و تاثیر و تاثر پدیده ه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امکان پیش بینی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ایجاد امکان پیش بینی رخدادها و عملکرده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itle 1"/>
          <p:cNvSpPr/>
          <p:nvPr/>
        </p:nvSpPr>
        <p:spPr>
          <a:xfrm>
            <a:off x="5000760" y="785880"/>
            <a:ext cx="3142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تمرین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itle 1"/>
          <p:cNvSpPr/>
          <p:nvPr/>
        </p:nvSpPr>
        <p:spPr>
          <a:xfrm>
            <a:off x="1071360" y="1714320"/>
            <a:ext cx="7500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fa-IR" sz="2000" spc="-1" strike="noStrike">
                <a:solidFill>
                  <a:schemeClr val="accent5">
                    <a:lumMod val="50000"/>
                  </a:schemeClr>
                </a:solidFill>
                <a:latin typeface="Times New Roman"/>
                <a:cs typeface="B Mitra"/>
              </a:rPr>
              <a:t>چند نظریه ( تئوری ) شناخته شده را نام ببرید و فراز های مهم آن را توضیح دهید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itle 1"/>
          <p:cNvSpPr/>
          <p:nvPr/>
        </p:nvSpPr>
        <p:spPr>
          <a:xfrm>
            <a:off x="5220000" y="2568240"/>
            <a:ext cx="24235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نظریه نیوتون </a:t>
            </a:r>
            <a:r>
              <a:rPr b="1" lang="en-US" sz="14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(فیزیک)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itle 1"/>
          <p:cNvSpPr/>
          <p:nvPr/>
        </p:nvSpPr>
        <p:spPr>
          <a:xfrm>
            <a:off x="2051640" y="4005000"/>
            <a:ext cx="28771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نظریه رفتارگرایی</a:t>
            </a:r>
            <a:r>
              <a:rPr b="1" lang="en-US" sz="20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(روانشناسی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itle 1"/>
          <p:cNvSpPr/>
          <p:nvPr/>
        </p:nvSpPr>
        <p:spPr>
          <a:xfrm>
            <a:off x="3060000" y="3501000"/>
            <a:ext cx="26546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نظریه فروید</a:t>
            </a:r>
            <a:r>
              <a:rPr b="1" lang="en-US" sz="14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 (روانشناسی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itle 1"/>
          <p:cNvSpPr/>
          <p:nvPr/>
        </p:nvSpPr>
        <p:spPr>
          <a:xfrm>
            <a:off x="4298760" y="2997000"/>
            <a:ext cx="2433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نظریه داروین </a:t>
            </a:r>
            <a:r>
              <a:rPr b="1" lang="en-US" sz="14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(زیست شناسی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itle 1"/>
          <p:cNvSpPr/>
          <p:nvPr/>
        </p:nvSpPr>
        <p:spPr>
          <a:xfrm>
            <a:off x="1224000" y="4437000"/>
            <a:ext cx="750060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fa-IR" sz="2000" spc="-1" strike="noStrike">
                <a:solidFill>
                  <a:schemeClr val="accent5">
                    <a:lumMod val="50000"/>
                  </a:schemeClr>
                </a:solidFill>
                <a:latin typeface="Times New Roman"/>
                <a:cs typeface="B Mitra"/>
              </a:rPr>
              <a:t>آیا شما هم نظریه ای شخصی دارید؟ </a:t>
            </a:r>
            <a:r>
              <a:rPr b="1" lang="en-US" sz="1800" spc="-1" strike="noStrike">
                <a:solidFill>
                  <a:schemeClr val="accent5">
                    <a:lumMod val="50000"/>
                  </a:schemeClr>
                </a:solidFill>
                <a:latin typeface="Times New Roman"/>
              </a:rPr>
              <a:t>(نظریه شما چه چیز را توصیف و پیش بینی میکند؟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10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47640" y="2421000"/>
            <a:ext cx="6643440" cy="1707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 rtl="1">
              <a:lnSpc>
                <a:spcPct val="150000"/>
              </a:lnSpc>
              <a:buNone/>
              <a:tabLst>
                <a:tab algn="l" pos="605484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فرضیه و نحوه تدوین آن </a:t>
            </a:r>
            <a:endParaRPr b="0" lang="en-US" sz="4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85" name="Title 1"/>
          <p:cNvSpPr/>
          <p:nvPr/>
        </p:nvSpPr>
        <p:spPr>
          <a:xfrm>
            <a:off x="1547640" y="1340640"/>
            <a:ext cx="6643440" cy="1367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  <a:cs typeface="B Mitra"/>
              </a:rPr>
              <a:t>بخش سو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itle 1"/>
          <p:cNvSpPr/>
          <p:nvPr/>
        </p:nvSpPr>
        <p:spPr>
          <a:xfrm>
            <a:off x="5000760" y="785880"/>
            <a:ext cx="3142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فرضیه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itle 1"/>
          <p:cNvSpPr/>
          <p:nvPr/>
        </p:nvSpPr>
        <p:spPr>
          <a:xfrm>
            <a:off x="1071360" y="1874520"/>
            <a:ext cx="7500600" cy="44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حدس ، پیشنهاد یا پیش بینی ( خردمندانه ای ) در باره چگونگی رابطه چند متغیر یا پاسخ یا راه حل معقولانه ای برای مساله پژوهش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ctr" rtl="1">
              <a:lnSpc>
                <a:spcPct val="2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(ادعایی مبنی بر وجود رابطه ، تاثیر یا تفاوت دو یا چند متغیر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ctr" rtl="1">
              <a:lnSpc>
                <a:spcPct val="200000"/>
              </a:lnSpc>
              <a:tabLst>
                <a:tab algn="l" pos="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15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333333"/>
                </a:solidFill>
                <a:latin typeface="Times New Roman"/>
                <a:cs typeface="B Mitra"/>
              </a:rPr>
              <a:t>طرح فرضیه راهکاری است برای هدایت روند پژوهش ( فرضیه ابزار تئوری است ) و چارچوبی را برای تنظیم و ارایه گزارش تحقیق فراهم می آورد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15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568440" algn="ctr" rtl="1">
              <a:lnSpc>
                <a:spcPct val="15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c00000"/>
                </a:solidFill>
                <a:latin typeface="Times New Roman"/>
                <a:cs typeface="B Mitra"/>
              </a:rPr>
              <a:t>فرضیه ابطال یا اثبات نمی شوند بلکه تنها در حوزه محدودی به طور موقت         تایید یا رد می گردد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itle 1"/>
          <p:cNvSpPr/>
          <p:nvPr/>
        </p:nvSpPr>
        <p:spPr>
          <a:xfrm>
            <a:off x="1071360" y="857160"/>
            <a:ext cx="30715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</a:pPr>
            <a:r>
              <a:rPr b="1" lang="en-GB" sz="3600" spc="-1" strike="noStrike">
                <a:solidFill>
                  <a:schemeClr val="accent1">
                    <a:lumMod val="50000"/>
                  </a:schemeClr>
                </a:solidFill>
                <a:latin typeface="Comic Sans MS"/>
              </a:rPr>
              <a:t>Hypothe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ounded Rectangle 5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itle 1"/>
          <p:cNvSpPr/>
          <p:nvPr/>
        </p:nvSpPr>
        <p:spPr>
          <a:xfrm>
            <a:off x="2857320" y="785880"/>
            <a:ext cx="5285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فرضیه و سوال پژوهش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itle 1"/>
          <p:cNvSpPr/>
          <p:nvPr/>
        </p:nvSpPr>
        <p:spPr>
          <a:xfrm>
            <a:off x="1071360" y="1857240"/>
            <a:ext cx="7500600" cy="44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فرضیه مبنایی منطقی دارد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لازم است که فرضیه با ارایه مبانی نظری یا داده ها و شواهد تجربی تبیین شود </a:t>
            </a:r>
            <a:r>
              <a:rPr b="1" lang="en-US" sz="1600" spc="-1" strike="noStrike">
                <a:solidFill>
                  <a:srgbClr val="00004d"/>
                </a:solidFill>
                <a:latin typeface="Times New Roman"/>
              </a:rPr>
              <a:t>( برای طرح آن دلایل روشن و قابل ارایه ای وجود دارد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15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مبنای نظری ؛ از متن نظریه های مربوط به موضوع برآمده و با آنها سازگار است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15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مبنای تجربی ؛ از بطن مشاهده های عینی یا پزوهش های پیشین برآمده اس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150000"/>
              </a:lnSpc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ct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chemeClr val="accent5">
                    <a:lumMod val="50000"/>
                  </a:schemeClr>
                </a:solidFill>
                <a:latin typeface="Times New Roman"/>
                <a:cs typeface="B Mitra"/>
              </a:rPr>
              <a:t>چنانچه مبانی منطقی لازم برای طرح فرضیه جود نداشته باشد به طرح                 سوال پژوهشی بسنده می شود 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15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itle 1"/>
          <p:cNvSpPr/>
          <p:nvPr/>
        </p:nvSpPr>
        <p:spPr>
          <a:xfrm>
            <a:off x="3857760" y="714240"/>
            <a:ext cx="4571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فرضیه : </a:t>
            </a: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ضابطه های تدوین</a:t>
            </a:r>
            <a:r>
              <a:rPr b="1" lang="en-US" sz="4400" spc="-1" strike="noStrike">
                <a:solidFill>
                  <a:srgbClr val="00004d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itle 1"/>
          <p:cNvSpPr/>
          <p:nvPr/>
        </p:nvSpPr>
        <p:spPr>
          <a:xfrm>
            <a:off x="1071360" y="2071800"/>
            <a:ext cx="7500600" cy="42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فرضیه همواره به صورت جمله خبری بیان میشود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مطالعه ( اندازه گیری ، مشاهده ) متغیر ها و روابط آنها ممکن باشد .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به رابطه ، تاثیر یا تفاوت متغیر ( دو یا چند متغیر ) با هم یا برهم اشاره دارد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به صورت عبارتی رسا و روشن که نیاز به تفسیر و ترجمه ندارد ،  نگاشته شود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 دقیق ،روشن و تا حد امکان  ساده( بدون آرایه های نگارشی) ومختصر نوشته شوند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ctr" rtl="1">
              <a:lnSpc>
                <a:spcPct val="2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4d4d73"/>
                </a:solidFill>
                <a:latin typeface="Times New Roman"/>
              </a:rPr>
              <a:t>(امور بدیهی و مسایلی که محل منازعه و بحث نیستند را به عنوان فرضیه ارایه نکنیم 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15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itle 1"/>
          <p:cNvSpPr/>
          <p:nvPr/>
        </p:nvSpPr>
        <p:spPr>
          <a:xfrm>
            <a:off x="5357880" y="785880"/>
            <a:ext cx="2785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تمرین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itle 1"/>
          <p:cNvSpPr/>
          <p:nvPr/>
        </p:nvSpPr>
        <p:spPr>
          <a:xfrm>
            <a:off x="899640" y="1556640"/>
            <a:ext cx="7601040" cy="51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42800" indent="-353880" algn="just" rtl="1">
              <a:lnSpc>
                <a:spcPct val="15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تعیین کنید کدامیک از عبارت های زیر فرضیه مناسبی است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just" rtl="1">
              <a:lnSpc>
                <a:spcPct val="150000"/>
              </a:lnSpc>
              <a:tabLst>
                <a:tab algn="l" pos="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546120" indent="-457200" algn="r" rtl="1">
              <a:lnSpc>
                <a:spcPct val="150000"/>
              </a:lnSpc>
              <a:buClr>
                <a:srgbClr val="00004d"/>
              </a:buClr>
              <a:buFont typeface="Times New Roman"/>
              <a:buAutoNum type="arabicPeriod"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آیا تغییر برنامه کاروزی دانشجو معلمان اقدام مناسبی است 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150000"/>
              </a:lnSpc>
              <a:buClr>
                <a:srgbClr val="00004d"/>
              </a:buClr>
              <a:buFont typeface="Times New Roman"/>
              <a:buAutoNum type="arabicPeriod"/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     </a:t>
            </a: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مهارت ورفتار های اجتماعی دختران و پسران متفاوت است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6120" indent="-457200" algn="r" rtl="1">
              <a:lnSpc>
                <a:spcPct val="150000"/>
              </a:lnSpc>
              <a:buClr>
                <a:srgbClr val="00004d"/>
              </a:buClr>
              <a:buFont typeface="Times New Roman"/>
              <a:buAutoNum type="arabicPeriod"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بومی بودن یا غیر بومی بودن معلمان با عملکرد حرفه ای آنان ارتباطی ندار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6120" indent="-457200" algn="r" rtl="1">
              <a:lnSpc>
                <a:spcPct val="150000"/>
              </a:lnSpc>
              <a:buClr>
                <a:srgbClr val="00004d"/>
              </a:buClr>
              <a:buFont typeface="Times New Roman"/>
              <a:buAutoNum type="arabicPeriod"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بهره وری آموزشی با پیچیدگی عوامل وتاثیر و تاثرات آن رابطه دارد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6120" indent="-457200" algn="r" rtl="1">
              <a:lnSpc>
                <a:spcPct val="150000"/>
              </a:lnSpc>
              <a:buClr>
                <a:srgbClr val="00004d"/>
              </a:buClr>
              <a:buFont typeface="Times New Roman"/>
              <a:buAutoNum type="arabicPeriod"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افزایش برنامه های تفریحی سبب بهبود یاد گیری می گرد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6120" indent="-457200" algn="r" rtl="1">
              <a:lnSpc>
                <a:spcPct val="150000"/>
              </a:lnSpc>
              <a:buClr>
                <a:srgbClr val="00004d"/>
              </a:buClr>
              <a:buFont typeface="Times New Roman"/>
              <a:buAutoNum type="arabicPeriod"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تعداد و حجم درس های تربیتی با میزان کارایی معلمان رابطه دارد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 algn="r" rtl="1">
              <a:lnSpc>
                <a:spcPct val="150000"/>
              </a:lnSpc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marL="88920" algn="ctr" rtl="1">
              <a:lnSpc>
                <a:spcPct val="150000"/>
              </a:lnSpc>
              <a:tabLst>
                <a:tab algn="l" pos="0"/>
              </a:tabLst>
            </a:pPr>
            <a:r>
              <a:rPr b="1" lang="fa-IR" sz="28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  <a:cs typeface="B Mitra"/>
              </a:rPr>
              <a:t>شما چندفرضیه ارایه کنی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8920" algn="ctr" rtl="1">
              <a:lnSpc>
                <a:spcPct val="15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15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just" rtl="1">
              <a:lnSpc>
                <a:spcPct val="15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ounded Rectangle 3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47640" y="2709000"/>
            <a:ext cx="6643440" cy="2016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 rtl="1">
              <a:lnSpc>
                <a:spcPct val="150000"/>
              </a:lnSpc>
              <a:buNone/>
              <a:tabLst>
                <a:tab algn="l" pos="605484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  <a:cs typeface="B Mitra"/>
              </a:rPr>
              <a:t>مطالعه پیشینه موضوع و </a:t>
            </a:r>
            <a:br>
              <a:rPr sz="4400"/>
            </a:br>
            <a:r>
              <a:rPr b="1" lang="fa-IR" sz="4400" spc="-1" strike="noStrike">
                <a:solidFill>
                  <a:srgbClr val="000066"/>
                </a:solidFill>
                <a:latin typeface="Times New Roman"/>
                <a:cs typeface="B Mitra"/>
              </a:rPr>
              <a:t>یادداشت برداری  </a:t>
            </a:r>
            <a:endParaRPr b="0" lang="en-US" sz="4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00" name="Title 1"/>
          <p:cNvSpPr/>
          <p:nvPr/>
        </p:nvSpPr>
        <p:spPr>
          <a:xfrm>
            <a:off x="1547640" y="1340640"/>
            <a:ext cx="6643440" cy="1367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  <a:cs typeface="B Mitra"/>
              </a:rPr>
              <a:t>بخش چهارم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itle 1"/>
          <p:cNvSpPr/>
          <p:nvPr/>
        </p:nvSpPr>
        <p:spPr>
          <a:xfrm>
            <a:off x="1857240" y="785880"/>
            <a:ext cx="6286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</a:pPr>
            <a:r>
              <a:rPr b="1" lang="fa-IR" sz="3600" spc="-1" strike="noStrike">
                <a:solidFill>
                  <a:srgbClr val="00004d"/>
                </a:solidFill>
                <a:latin typeface="Times New Roman"/>
                <a:cs typeface="B Mitra"/>
              </a:rPr>
              <a:t>ادبیات و پیشینه تحقیق: </a:t>
            </a: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ضرور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itle 1"/>
          <p:cNvSpPr/>
          <p:nvPr/>
        </p:nvSpPr>
        <p:spPr>
          <a:xfrm>
            <a:off x="928800" y="1785960"/>
            <a:ext cx="7357680" cy="46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تعریف و تحدید موضو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اجتناب از دوباره کاری و معطوف شدن به مسایل نو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ارتقا روش شناختی ، بهره گیری از روش های کار آمدت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دستیابی به بینشی در باره موضوع و حدود آن و ارزیابی فرضیه و سوال های پژوه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47640" y="2800800"/>
            <a:ext cx="6643440" cy="1347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  <a:cs typeface="B Mitra"/>
              </a:rPr>
              <a:t>مساله و موضوع </a:t>
            </a:r>
            <a:endParaRPr b="0" lang="en-US" sz="4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48" name="Title 1"/>
          <p:cNvSpPr/>
          <p:nvPr/>
        </p:nvSpPr>
        <p:spPr>
          <a:xfrm>
            <a:off x="1547640" y="1412640"/>
            <a:ext cx="6643440" cy="1367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  <a:cs typeface="B Mitra"/>
              </a:rPr>
              <a:t>بخش او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itle 1"/>
          <p:cNvSpPr/>
          <p:nvPr/>
        </p:nvSpPr>
        <p:spPr>
          <a:xfrm>
            <a:off x="2786040" y="785880"/>
            <a:ext cx="5357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</a:pPr>
            <a:r>
              <a:rPr b="1" lang="fa-IR" sz="3600" spc="-1" strike="noStrike">
                <a:solidFill>
                  <a:srgbClr val="00004d"/>
                </a:solidFill>
                <a:latin typeface="Times New Roman"/>
                <a:cs typeface="B Mitra"/>
              </a:rPr>
              <a:t>ادبیات و پیشینه تحقیق: </a:t>
            </a: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هدف</a:t>
            </a:r>
            <a:r>
              <a:rPr b="1" lang="en-US" sz="3600" spc="-1" strike="noStrike">
                <a:solidFill>
                  <a:srgbClr val="00004d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itle 1"/>
          <p:cNvSpPr/>
          <p:nvPr/>
        </p:nvSpPr>
        <p:spPr>
          <a:xfrm>
            <a:off x="928800" y="1785960"/>
            <a:ext cx="7357680" cy="46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مرور مبانی نظری 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معرفی و توضیح نظریه ها ، رویکردها ، دیدگاهها معتبر در حوزه موضو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تعریف و بازنمایی مفاهی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توضیح و پرداخت مفاهیم و واژگان کلیدی و کلیه نکات مربوط به آنها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مرور تحقیقات انجام شد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توضیح و وارسی نتایج به دست از بررسی موضوع در پژوهش های انجام شد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بازبینی روش ها ، جامعه آماری ، نمونه و دیگر فراز های روش شناختی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itle 1"/>
          <p:cNvSpPr/>
          <p:nvPr/>
        </p:nvSpPr>
        <p:spPr>
          <a:xfrm>
            <a:off x="1500120" y="1785960"/>
            <a:ext cx="6571800" cy="44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آیا باید یادداشت کنیم 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شما یادداشت می کنید ؟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در یادداشت کردن نظم معینی را دنبال می کنید ؟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یادداشت های شما تا چه اندازه منظم و مرتب است ؟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یاداشت های شما قابل ارایه به دیگران هست ؟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یادداشت های شما به کارتان آمده یا میاید ؟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یادداشت کردن به یادگیری ( یادسپاری و یاد آوری ) شما کمک می کند 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itle 1"/>
          <p:cNvSpPr/>
          <p:nvPr/>
        </p:nvSpPr>
        <p:spPr>
          <a:xfrm>
            <a:off x="5786280" y="714240"/>
            <a:ext cx="2785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</a:tabLst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چند پرسش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ounded Rectangle 5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itle 1"/>
          <p:cNvSpPr/>
          <p:nvPr/>
        </p:nvSpPr>
        <p:spPr>
          <a:xfrm>
            <a:off x="2428920" y="785880"/>
            <a:ext cx="3857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</a:tabLst>
            </a:pPr>
            <a:r>
              <a:rPr b="0" lang="fa-IR" sz="3600" spc="-1" strike="noStrike">
                <a:solidFill>
                  <a:srgbClr val="00004d"/>
                </a:solidFill>
                <a:latin typeface="Times New Roman"/>
                <a:cs typeface="B Mitra"/>
              </a:rPr>
              <a:t>چرا باید یادداشت کنیم 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itle 1"/>
          <p:cNvSpPr/>
          <p:nvPr/>
        </p:nvSpPr>
        <p:spPr>
          <a:xfrm>
            <a:off x="5786280" y="714240"/>
            <a:ext cx="2785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</a:tabLst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بیان مساله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itle 1"/>
          <p:cNvSpPr/>
          <p:nvPr/>
        </p:nvSpPr>
        <p:spPr>
          <a:xfrm>
            <a:off x="1928880" y="2214720"/>
            <a:ext cx="5643360" cy="37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44000" algn="r" rtl="1">
              <a:lnSpc>
                <a:spcPct val="200000"/>
              </a:lnSpc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اطلاعات بسیاری را از دست می دهی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اطلاعات ما سازمان و طبقه بندی مناسبی نمی یاب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دسترسی به آموخته ها ، اطلاعات و داده ها دشوار است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بدون مرجع ، منبع ، تاریخ اطلاعات بی هویت اند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اطلاعات اتفاقی کسب میشوند و تصادفی در ذهن می مانن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itle 1"/>
          <p:cNvSpPr/>
          <p:nvPr/>
        </p:nvSpPr>
        <p:spPr>
          <a:xfrm>
            <a:off x="4572000" y="714240"/>
            <a:ext cx="4000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</a:tabLst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برگه یادداشت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itle 1"/>
          <p:cNvSpPr/>
          <p:nvPr/>
        </p:nvSpPr>
        <p:spPr>
          <a:xfrm>
            <a:off x="1643040" y="2214720"/>
            <a:ext cx="6357600" cy="24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44000" algn="r" rtl="1">
              <a:lnSpc>
                <a:spcPct val="2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فیش یا برگه های یادداشت ، برگه هایی اند با شکل و اندازه واحد برای ثبت اطلاعات دریافتی ، چکیده مطالعات و .... با نظم و اصول تعریف شده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itle 1"/>
          <p:cNvSpPr/>
          <p:nvPr/>
        </p:nvSpPr>
        <p:spPr>
          <a:xfrm>
            <a:off x="4572000" y="714240"/>
            <a:ext cx="4000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</a:tabLst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ویژگی های فیش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itle 1"/>
          <p:cNvSpPr/>
          <p:nvPr/>
        </p:nvSpPr>
        <p:spPr>
          <a:xfrm>
            <a:off x="1643040" y="2214720"/>
            <a:ext cx="6357600" cy="38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44000" algn="r" rtl="1">
              <a:lnSpc>
                <a:spcPct val="1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کیفیت و جنس 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( با قابلیت نگهداری و یا انتقال و جابجایی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اندازه و ابعاد   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( بسته به موضوع و کاربرده های آن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200000"/>
              </a:lnSpc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مشخصات  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( نام نویسنده ، سال انتشار ، ، مترجم ، ناشر 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       تاریخ یادداشت برداری ، نام یادداشت کننده 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       </a:t>
            </a:r>
            <a:r>
              <a:rPr b="1" lang="fa-IR" sz="20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  <a:cs typeface="B Mitra"/>
              </a:rPr>
              <a:t>شناسه برگه یادداشت 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4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itle 1"/>
          <p:cNvSpPr/>
          <p:nvPr/>
        </p:nvSpPr>
        <p:spPr>
          <a:xfrm>
            <a:off x="4572000" y="714240"/>
            <a:ext cx="4000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</a:tabLst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مشخصات فیش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itle 1"/>
          <p:cNvSpPr/>
          <p:nvPr/>
        </p:nvSpPr>
        <p:spPr>
          <a:xfrm>
            <a:off x="1000080" y="2000160"/>
            <a:ext cx="7357680" cy="38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44000" algn="r" rtl="1">
              <a:lnSpc>
                <a:spcPct val="1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ویژگی ها منبع ؛  نام نویسنده ، سال انتشار ، ، مترجم ، ناشر 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موضوع اصلی ، موضوع فرع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en-US" sz="24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4d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تاریخ یادداشت برداری ، نام یادداشت کننده </a:t>
            </a:r>
            <a:r>
              <a:rPr b="1" lang="en-US" sz="1600" spc="-1" strike="noStrike">
                <a:solidFill>
                  <a:srgbClr val="00004d"/>
                </a:solidFill>
                <a:latin typeface="Times New Roman"/>
              </a:rPr>
              <a:t>( در صورت لزوم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نوع و نحوه یادداشت برداری </a:t>
            </a:r>
            <a:r>
              <a:rPr b="1" lang="en-US" sz="1600" spc="-1" strike="noStrike">
                <a:solidFill>
                  <a:srgbClr val="00004d"/>
                </a:solidFill>
                <a:latin typeface="Times New Roman"/>
              </a:rPr>
              <a:t>( در صورت لزوم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fa-IR" sz="24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  <a:cs typeface="B Mitra"/>
              </a:rPr>
              <a:t>شناسه برگه یادداش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itle 1"/>
          <p:cNvSpPr/>
          <p:nvPr/>
        </p:nvSpPr>
        <p:spPr>
          <a:xfrm>
            <a:off x="5072040" y="714240"/>
            <a:ext cx="3500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</a:pPr>
            <a:r>
              <a:rPr b="1" lang="fa-IR" sz="3200" spc="-1" strike="noStrike">
                <a:solidFill>
                  <a:srgbClr val="00004d"/>
                </a:solidFill>
                <a:latin typeface="Times New Roman"/>
                <a:cs typeface="B Mitra"/>
              </a:rPr>
              <a:t>شناسه برگه یادداشت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itle 1"/>
          <p:cNvSpPr/>
          <p:nvPr/>
        </p:nvSpPr>
        <p:spPr>
          <a:xfrm>
            <a:off x="1643040" y="2214720"/>
            <a:ext cx="635760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44000" algn="r" rtl="1">
              <a:lnSpc>
                <a:spcPct val="2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عدد یا ترکیبی از عدد و حروف برای تعیین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2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شماره ردی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2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طبقه یا نوع مطل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2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و 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itle 1"/>
          <p:cNvSpPr/>
          <p:nvPr/>
        </p:nvSpPr>
        <p:spPr>
          <a:xfrm>
            <a:off x="3500280" y="714240"/>
            <a:ext cx="5071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</a:tabLst>
            </a:pPr>
            <a:r>
              <a:rPr b="1" lang="fa-IR" sz="3200" spc="-1" strike="noStrike">
                <a:solidFill>
                  <a:srgbClr val="00004d"/>
                </a:solidFill>
                <a:latin typeface="Times New Roman"/>
                <a:cs typeface="B Mitra"/>
              </a:rPr>
              <a:t>نحوه یادداشت برداری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itle 1"/>
          <p:cNvSpPr/>
          <p:nvPr/>
        </p:nvSpPr>
        <p:spPr>
          <a:xfrm>
            <a:off x="1643040" y="2214720"/>
            <a:ext cx="6357600" cy="27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44000" algn="r" rtl="1">
              <a:lnSpc>
                <a:spcPct val="1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نقل قول مستقیم 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( مطالب علمی ، داده ها و ......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تلخیص 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( مطالب مفصل و طولانی ، داستان ها ، مطالب فلسفی و .....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مضمون نویسی 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(مطالب پیچیده ، مفصل یا غیر قابل نقل و ...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حاشیه نویسی (مطالب شخصی ، نظرات شخصی و ...........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itle 1"/>
          <p:cNvSpPr/>
          <p:nvPr/>
        </p:nvSpPr>
        <p:spPr>
          <a:xfrm>
            <a:off x="4572000" y="714240"/>
            <a:ext cx="4000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</a:tabLst>
            </a:pPr>
            <a:r>
              <a:rPr b="1" lang="fa-IR" sz="3200" spc="-1" strike="noStrike">
                <a:solidFill>
                  <a:srgbClr val="00004d"/>
                </a:solidFill>
                <a:latin typeface="Times New Roman"/>
                <a:cs typeface="B Mitra"/>
              </a:rPr>
              <a:t>رویه های شخصی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itle 1"/>
          <p:cNvSpPr/>
          <p:nvPr/>
        </p:nvSpPr>
        <p:spPr>
          <a:xfrm>
            <a:off x="1643040" y="2214720"/>
            <a:ext cx="635760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44000" algn="r" rtl="1">
              <a:lnSpc>
                <a:spcPct val="150000"/>
              </a:lnSpc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استفاده از رنگ ثابت برای منظور خا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50000"/>
              </a:lnSpc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استفاده از ابعاد مختلف برای موضو ع ها مختل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50000"/>
              </a:lnSpc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نوشتن یک سوال برای هر یک فیش ( که مطلب فیش پاسخ آن باشد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50000"/>
              </a:lnSpc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شناسه نویسی و کد گذاری هر برگه بر اساس طبقه بندی شخصی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50000"/>
              </a:lnSpc>
            </a:pP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...................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50000"/>
              </a:lnSpc>
            </a:pP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.............................................................................................................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itle 1"/>
          <p:cNvSpPr/>
          <p:nvPr/>
        </p:nvSpPr>
        <p:spPr>
          <a:xfrm>
            <a:off x="3000240" y="714240"/>
            <a:ext cx="5071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</a:tabLst>
            </a:pPr>
            <a:r>
              <a:rPr b="1" lang="fa-IR" sz="3200" spc="-1" strike="noStrike">
                <a:solidFill>
                  <a:srgbClr val="00004d"/>
                </a:solidFill>
                <a:latin typeface="Times New Roman"/>
                <a:cs typeface="B Mitra"/>
              </a:rPr>
              <a:t>نمایه سازی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itle 1"/>
          <p:cNvSpPr/>
          <p:nvPr/>
        </p:nvSpPr>
        <p:spPr>
          <a:xfrm>
            <a:off x="3214800" y="2214720"/>
            <a:ext cx="4428720" cy="24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50000"/>
              </a:lnSpc>
              <a:tabLst>
                <a:tab algn="l" pos="0"/>
              </a:tabLst>
            </a:pPr>
            <a:r>
              <a:rPr b="1" lang="fa-IR" sz="2800" spc="-1" strike="noStrike">
                <a:solidFill>
                  <a:srgbClr val="00004d"/>
                </a:solidFill>
                <a:latin typeface="Times New Roman"/>
                <a:cs typeface="B Mitra"/>
              </a:rPr>
              <a:t>طبقه بندی مطالب و فیش ها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</a:tabLst>
            </a:pPr>
            <a:r>
              <a:rPr b="1" lang="fa-IR" sz="2800" spc="-1" strike="noStrike">
                <a:solidFill>
                  <a:srgbClr val="00004d"/>
                </a:solidFill>
                <a:latin typeface="Times New Roman"/>
                <a:cs typeface="B Mitra"/>
              </a:rPr>
              <a:t>تعریف شناسه برای هر طبق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</a:tabLst>
            </a:pPr>
            <a:r>
              <a:rPr b="1" lang="fa-IR" sz="2800" spc="-1" strike="noStrike">
                <a:solidFill>
                  <a:srgbClr val="00004d"/>
                </a:solidFill>
                <a:latin typeface="Times New Roman"/>
                <a:cs typeface="B Mitra"/>
              </a:rPr>
              <a:t>تهیه فهرست برگه ها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ounded Rectangle 3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itle 1"/>
          <p:cNvSpPr/>
          <p:nvPr/>
        </p:nvSpPr>
        <p:spPr>
          <a:xfrm>
            <a:off x="3643200" y="500040"/>
            <a:ext cx="514332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مساله تحقیق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</a:pPr>
            <a:r>
              <a:rPr b="1" lang="en-US" sz="900" spc="-1" strike="noStrike">
                <a:solidFill>
                  <a:srgbClr val="00004d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</a:pPr>
            <a:r>
              <a:rPr b="1" lang="fa-IR" sz="1600" spc="-1" strike="noStrike">
                <a:solidFill>
                  <a:srgbClr val="00004d"/>
                </a:solidFill>
                <a:latin typeface="Times New Roman"/>
                <a:cs typeface="B Mitra"/>
              </a:rPr>
              <a:t>محقق فردی است که دچار مساله شده است 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itle 1"/>
          <p:cNvSpPr/>
          <p:nvPr/>
        </p:nvSpPr>
        <p:spPr>
          <a:xfrm>
            <a:off x="1214280" y="1928880"/>
            <a:ext cx="7286400" cy="37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53880" indent="-353880" algn="r" rtl="1">
              <a:lnSpc>
                <a:spcPct val="200000"/>
              </a:lnSpc>
              <a:buClr>
                <a:srgbClr val="00004d"/>
              </a:buClr>
              <a:buFont typeface="Wingdings" charset="2"/>
              <a:buChar char=""/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هر پژوهشی با مساله آغاز می شود ، احساس وجود یک مشکل یا درک یک مساله نخستین مرحله اقدامی پژوهشی است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200000"/>
              </a:lnSpc>
              <a:buClr>
                <a:srgbClr val="00004d"/>
              </a:buClr>
              <a:buFont typeface="Wingdings" charset="2"/>
              <a:buChar char=""/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اهمیت و ضرورت ، ماهیت و کیفیت مساله تعیین کننده اهمیت و کیفیت مساله است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200000"/>
              </a:lnSpc>
              <a:buClr>
                <a:srgbClr val="00004d"/>
              </a:buClr>
              <a:buFont typeface="Wingdings" charset="2"/>
              <a:buChar char=""/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بیش از هر چیز باید به شناخت و تبیین مساله ، ابعاد آن ، بیان روشن و واضح و تبیین ضرورت آهمیت آن پرداخت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itle 1"/>
          <p:cNvSpPr/>
          <p:nvPr/>
        </p:nvSpPr>
        <p:spPr>
          <a:xfrm>
            <a:off x="2325960" y="1772640"/>
            <a:ext cx="4971600" cy="31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r>
              <a:rPr b="1" lang="fa-IR" sz="2800" spc="-1" strike="noStrike">
                <a:solidFill>
                  <a:srgbClr val="000033"/>
                </a:solidFill>
                <a:latin typeface="Times New Roman"/>
                <a:cs typeface="B Koodak"/>
              </a:rPr>
              <a:t>مجید  ابراهیم دماوند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2800" spc="-1" strike="noStrike">
                <a:solidFill>
                  <a:srgbClr val="000033"/>
                </a:solidFill>
                <a:latin typeface="Times New Roman"/>
                <a:cs typeface="B Koodak"/>
              </a:rPr>
              <a:t>مدرس دانشگاه تربیت دبیر شهید رجایی</a:t>
            </a:r>
            <a:r>
              <a:rPr b="1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1100" spc="-1" strike="noStrike">
                <a:solidFill>
                  <a:srgbClr val="000033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33"/>
                </a:solidFill>
                <a:latin typeface="_PDMS_Saleem_QuranFont"/>
              </a:rPr>
              <a:t>	</a:t>
            </a:r>
            <a:r>
              <a:rPr b="1" lang="en-US" sz="2800" spc="-1" strike="noStrike" u="sng">
                <a:solidFill>
                  <a:srgbClr val="1a3366"/>
                </a:solidFill>
                <a:uFillTx/>
                <a:latin typeface="Times New Roman"/>
                <a:hlinkClick r:id="rId1"/>
              </a:rPr>
              <a:t>0ns20@yahoo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 u="sng">
                <a:solidFill>
                  <a:schemeClr val="accent6">
                    <a:lumMod val="50000"/>
                  </a:schemeClr>
                </a:solidFill>
                <a:uFillTx/>
                <a:latin typeface="Times New Roman"/>
                <a:hlinkClick r:id="rId2"/>
              </a:rPr>
              <a:t>Mdamavandi@Srttu.Edu.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itle 1"/>
          <p:cNvSpPr/>
          <p:nvPr/>
        </p:nvSpPr>
        <p:spPr>
          <a:xfrm>
            <a:off x="4071960" y="785880"/>
            <a:ext cx="4500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منشا مساله 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itle 1"/>
          <p:cNvSpPr/>
          <p:nvPr/>
        </p:nvSpPr>
        <p:spPr>
          <a:xfrm>
            <a:off x="1143000" y="1714320"/>
            <a:ext cx="7286400" cy="47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53880" indent="-353880" algn="r" rtl="1">
              <a:lnSpc>
                <a:spcPct val="150000"/>
              </a:lnSpc>
              <a:buClr>
                <a:srgbClr val="00004d"/>
              </a:buClr>
              <a:buFont typeface="Wingdings" charset="2"/>
              <a:buChar char=""/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محیط عینی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150000"/>
              </a:lnSpc>
              <a:buClr>
                <a:srgbClr val="00004d"/>
              </a:buClr>
              <a:buFont typeface="Wingdings" charset="2"/>
              <a:buChar char=""/>
            </a:pPr>
            <a:r>
              <a:rPr b="1" lang="fa-IR" sz="1600" spc="-1" strike="noStrike">
                <a:solidFill>
                  <a:srgbClr val="00004d"/>
                </a:solidFill>
                <a:latin typeface="Times New Roman"/>
                <a:cs typeface="B Mitra"/>
              </a:rPr>
              <a:t>تجربه های واقعی از زندگی در محیط ،  مواجهها با پدیده ها ، رخداد ها ، روندها پیوسته ما را با مسایلی روبرو می کنند که ابهام زا بوده و نیاز به پاسخ دارند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150000"/>
              </a:lnSpc>
              <a:buClr>
                <a:srgbClr val="00004d"/>
              </a:buClr>
              <a:buFont typeface="Wingdings" charset="2"/>
              <a:buChar char=""/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محیط ذهن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150000"/>
              </a:lnSpc>
              <a:tabLst>
                <a:tab algn="l" pos="0"/>
              </a:tabLst>
            </a:pPr>
            <a:r>
              <a:rPr b="1" lang="fa-IR" sz="1600" spc="-1" strike="noStrike">
                <a:solidFill>
                  <a:srgbClr val="00004d"/>
                </a:solidFill>
                <a:latin typeface="Times New Roman"/>
                <a:cs typeface="B Mitra"/>
              </a:rPr>
              <a:t>مطالعه منابع ، آثار و پژوهش های دیگران الهام بخش بوده و منشا شکل گیری مساله است . به صورت تمایل به تکرار یک پژوهش در جامعه ای دیگر و ...... بروز کن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150000"/>
              </a:lnSpc>
              <a:buClr>
                <a:srgbClr val="00004d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نظریه ها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150000"/>
              </a:lnSpc>
              <a:tabLst>
                <a:tab algn="l" pos="0"/>
              </a:tabLst>
            </a:pPr>
            <a:r>
              <a:rPr b="1" lang="fa-IR" sz="1600" spc="-1" strike="noStrike">
                <a:solidFill>
                  <a:srgbClr val="00004d"/>
                </a:solidFill>
                <a:latin typeface="Times New Roman"/>
                <a:cs typeface="B Mitra"/>
              </a:rPr>
              <a:t>تطابق نظریه ها با واقعیت ، نقصان های درونی نظریه ها ، تعارض آنها با نظریه های دیگر موجد مساله ان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0280" indent="-260280" algn="r" rtl="1">
              <a:lnSpc>
                <a:spcPct val="150000"/>
              </a:lnSpc>
              <a:buClr>
                <a:srgbClr val="00004d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تفکر و تخیل خلا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280" indent="-260280" algn="r" rtl="1">
              <a:lnSpc>
                <a:spcPct val="150000"/>
              </a:lnSpc>
              <a:tabLst>
                <a:tab algn="l" pos="0"/>
              </a:tabLst>
            </a:pPr>
            <a:r>
              <a:rPr b="1" lang="fa-IR" sz="1600" spc="-1" strike="noStrike">
                <a:solidFill>
                  <a:srgbClr val="00004d"/>
                </a:solidFill>
                <a:latin typeface="Times New Roman"/>
                <a:cs typeface="B Mitra"/>
              </a:rPr>
              <a:t>ایده پردازی ، تمایل به پیشرفت ، عبور از مرزهای موجود ، کشف حوزه های نو ، خلق چیزهای تازه می تواند منشا بروز مساله های جدید باشد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itle 1"/>
          <p:cNvSpPr/>
          <p:nvPr/>
        </p:nvSpPr>
        <p:spPr>
          <a:xfrm>
            <a:off x="2571840" y="785880"/>
            <a:ext cx="6000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موضوع تحقیق :  </a:t>
            </a: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ضابطه های تعیین موضو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itle 1"/>
          <p:cNvSpPr/>
          <p:nvPr/>
        </p:nvSpPr>
        <p:spPr>
          <a:xfrm>
            <a:off x="857160" y="1714320"/>
            <a:ext cx="7714800" cy="47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53880" indent="-353880" algn="r" rtl="1">
              <a:lnSpc>
                <a:spcPct val="15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موضوع تحقیق بیانی است کوتاه،رسا و کاملی  از مساله تحقیق به نحوی که امکان بررسی و پژوهیدن آنرا عملی جلوه می دهد .  ضوابطی برای یک موضوع خوب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2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200000"/>
              </a:lnSpc>
              <a:buClr>
                <a:srgbClr val="00004d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مورد علاقه باشد.</a:t>
            </a: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دغدغه و مشغولیت ذهنی پژوهشگر باشد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200000"/>
              </a:lnSpc>
              <a:buClr>
                <a:srgbClr val="00004d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بدیع و نو باشد .  </a:t>
            </a: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تکراری نباشد ، چیزی به ما ( به دانش یا توانایی ما ) بیافزای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200000"/>
              </a:lnSpc>
              <a:buClr>
                <a:srgbClr val="00004d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عملی و ممکن باشد .</a:t>
            </a: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دسترسی به منابع اطلاعاتی ، مالی و امکاناتی آن میسر باشد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200000"/>
              </a:lnSpc>
              <a:buClr>
                <a:srgbClr val="00004d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اهمیت و ضرورت داشته باشد. </a:t>
            </a: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بتواند به نیازی واقعی پاسخ گوید یا به دانشی نو بیانجامد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15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15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15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itle 1"/>
          <p:cNvSpPr/>
          <p:nvPr/>
        </p:nvSpPr>
        <p:spPr>
          <a:xfrm>
            <a:off x="2571840" y="785880"/>
            <a:ext cx="6000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موضوع تحقیق :  </a:t>
            </a: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ضابطه های تدوین موضو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itle 1"/>
          <p:cNvSpPr/>
          <p:nvPr/>
        </p:nvSpPr>
        <p:spPr>
          <a:xfrm>
            <a:off x="857160" y="1714320"/>
            <a:ext cx="7786440" cy="47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53880" indent="-353880" algn="r" rtl="1">
              <a:lnSpc>
                <a:spcPct val="2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200000"/>
              </a:lnSpc>
              <a:buClr>
                <a:srgbClr val="00004d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وضوح و روشنی :</a:t>
            </a: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1600" spc="-1" strike="noStrike">
                <a:solidFill>
                  <a:srgbClr val="00004d"/>
                </a:solidFill>
                <a:latin typeface="Times New Roman"/>
                <a:cs typeface="B Mitra"/>
              </a:rPr>
              <a:t>روشن و بدون ابهام بوده و نیاز به توضیح نداشته باشد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200000"/>
              </a:lnSpc>
              <a:buClr>
                <a:srgbClr val="00004d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رابطه چند متغیر</a:t>
            </a: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1600" spc="-1" strike="noStrike">
                <a:solidFill>
                  <a:srgbClr val="00004d"/>
                </a:solidFill>
                <a:latin typeface="Times New Roman"/>
                <a:cs typeface="B Mitra"/>
              </a:rPr>
              <a:t>به رابطه دو یا چند </a:t>
            </a:r>
            <a:r>
              <a:rPr b="1" lang="fa-IR" sz="1800" spc="-1" strike="noStrike">
                <a:solidFill>
                  <a:srgbClr val="ff0000"/>
                </a:solidFill>
                <a:latin typeface="Times New Roman"/>
                <a:cs typeface="B Mitra"/>
              </a:rPr>
              <a:t>متغیر </a:t>
            </a:r>
            <a:r>
              <a:rPr b="1" lang="fa-IR" sz="1600" spc="-1" strike="noStrike">
                <a:solidFill>
                  <a:srgbClr val="00004d"/>
                </a:solidFill>
                <a:latin typeface="Times New Roman"/>
                <a:cs typeface="B Mitra"/>
              </a:rPr>
              <a:t>اشاره داشته باشد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200000"/>
              </a:lnSpc>
              <a:buClr>
                <a:srgbClr val="00004d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محدودیت             </a:t>
            </a:r>
            <a:r>
              <a:rPr b="1" lang="fa-IR" sz="1600" spc="-1" strike="noStrike">
                <a:solidFill>
                  <a:srgbClr val="00004d"/>
                </a:solidFill>
                <a:latin typeface="Times New Roman"/>
                <a:cs typeface="B Mitra"/>
              </a:rPr>
              <a:t>دامنه محدودی داشته باشد ، به محدوده ، زمان و مسایل مشخصی معطوف باش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15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15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itle 1"/>
          <p:cNvSpPr/>
          <p:nvPr/>
        </p:nvSpPr>
        <p:spPr>
          <a:xfrm>
            <a:off x="1571760" y="785880"/>
            <a:ext cx="6929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تمرین :  </a:t>
            </a:r>
            <a:r>
              <a:rPr b="1" lang="fa-IR" sz="24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  <a:cs typeface="B Mitra"/>
              </a:rPr>
              <a:t>موضوع های مناسب و نا مناسب را تعیین کنید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itle 1"/>
          <p:cNvSpPr/>
          <p:nvPr/>
        </p:nvSpPr>
        <p:spPr>
          <a:xfrm>
            <a:off x="1571760" y="1785960"/>
            <a:ext cx="7071840" cy="44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254240" algn="r" rtl="1">
              <a:lnSpc>
                <a:spcPct val="200000"/>
              </a:lnSpc>
            </a:pP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بررسی عوامل موفقیت دانشجویان و نخبگان علمی و تحصیل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4240" algn="r" rtl="1">
              <a:lnSpc>
                <a:spcPct val="200000"/>
              </a:lnSpc>
            </a:pP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تعیین روند تغییرات در برنامه های آموزشی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4240" algn="r" rtl="1">
              <a:lnSpc>
                <a:spcPct val="200000"/>
              </a:lnSpc>
            </a:pP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بررسی علل بی انگیزه گی دانشجویان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4240" algn="r" rtl="1">
              <a:lnSpc>
                <a:spcPct val="200000"/>
              </a:lnSpc>
            </a:pP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بررسی رابطه ویژگی های مدیران و رضایت شغلی کارکنان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4240" algn="r" rtl="1">
              <a:lnSpc>
                <a:spcPct val="200000"/>
              </a:lnSpc>
            </a:pP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بررسی تاثیر آموزش های ضمن خدمت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4240" algn="r" rtl="1">
              <a:lnSpc>
                <a:spcPct val="200000"/>
              </a:lnSpc>
            </a:pP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بررسی تاثیر ارزشیابی توصیفی بر عملکرد  شاگردان کلاس سو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4240" algn="r" rtl="1">
              <a:lnSpc>
                <a:spcPct val="200000"/>
              </a:lnSpc>
            </a:pP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.........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4240" algn="r" rtl="1">
              <a:lnSpc>
                <a:spcPct val="200000"/>
              </a:lnSpc>
            </a:pP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........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15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15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47640" y="2421000"/>
            <a:ext cx="6643440" cy="2499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  <a:cs typeface="B Mitra"/>
              </a:rPr>
              <a:t>مروری بر نقش نظریه و فرضیه </a:t>
            </a:r>
            <a:br>
              <a:rPr sz="4400"/>
            </a:br>
            <a:r>
              <a:rPr b="1" lang="fa-IR" sz="4400" spc="-1" strike="noStrike">
                <a:solidFill>
                  <a:srgbClr val="000066"/>
                </a:solidFill>
                <a:latin typeface="Times New Roman"/>
                <a:cs typeface="B Mitra"/>
              </a:rPr>
              <a:t>در پژوهش علمی</a:t>
            </a:r>
            <a:endParaRPr b="0" lang="en-US" sz="4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65" name="Title 1"/>
          <p:cNvSpPr/>
          <p:nvPr/>
        </p:nvSpPr>
        <p:spPr>
          <a:xfrm>
            <a:off x="1547640" y="1412640"/>
            <a:ext cx="6643440" cy="1367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  <a:cs typeface="B Mitra"/>
              </a:rPr>
              <a:t>بخش دو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itle 1"/>
          <p:cNvSpPr/>
          <p:nvPr/>
        </p:nvSpPr>
        <p:spPr>
          <a:xfrm>
            <a:off x="5000760" y="785880"/>
            <a:ext cx="3142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نظریه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itle 1"/>
          <p:cNvSpPr/>
          <p:nvPr/>
        </p:nvSpPr>
        <p:spPr>
          <a:xfrm>
            <a:off x="1785960" y="1857240"/>
            <a:ext cx="6571800" cy="44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مجموعه‌ای از سازه‌ها ( مفاهیم ) تعاریف و گزاره‌های به هم مرتبط است که از طریق مشخص ساختن روابط بین متغیرها، با هدف تبیین و پیش بینی پدیده‌ها دید نظام یافته‌ای از پدیده‌ها ارائه می‌کن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مجموعه ای از تعریف ها و توضیحات در باره روابط تعدادی از متغیرها ، برای توصیف و توضیح وتبیین منظم پدیده ها و رویدادها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دانش استدلالی انتزاعی است که ما از آن برای تبیین پدیده ها ودرک آنها استفاده می کنیم ( ترین،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2007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071360" y="857160"/>
            <a:ext cx="30715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</a:pPr>
            <a:r>
              <a:rPr b="1" lang="en-GB" sz="3600" spc="-1" strike="noStrike">
                <a:solidFill>
                  <a:schemeClr val="accent1">
                    <a:lumMod val="50000"/>
                  </a:schemeClr>
                </a:solidFill>
                <a:latin typeface="Comic Sans MS"/>
              </a:rPr>
              <a:t>The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ounded Rectangle 5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Notebook">
  <a:themeElements>
    <a:clrScheme name="Notebook 4">
      <a:dk1>
        <a:srgbClr val="1c1c1c"/>
      </a:dk1>
      <a:lt1>
        <a:srgbClr val="ffffff"/>
      </a:lt1>
      <a:dk2>
        <a:srgbClr val="000066"/>
      </a:dk2>
      <a:lt2>
        <a:srgbClr val="666699"/>
      </a:lt2>
      <a:accent1>
        <a:srgbClr val="ff5050"/>
      </a:accent1>
      <a:accent2>
        <a:srgbClr val="009999"/>
      </a:accent2>
      <a:accent3>
        <a:srgbClr val="ffffff"/>
      </a:accent3>
      <a:accent4>
        <a:srgbClr val="161616"/>
      </a:accent4>
      <a:accent5>
        <a:srgbClr val="ffb3b3"/>
      </a:accent5>
      <a:accent6>
        <a:srgbClr val="008a8a"/>
      </a:accent6>
      <a:hlink>
        <a:srgbClr val="3366cc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Notebook">
  <a:themeElements>
    <a:clrScheme name="Notebook 4">
      <a:dk1>
        <a:srgbClr val="1c1c1c"/>
      </a:dk1>
      <a:lt1>
        <a:srgbClr val="ffffff"/>
      </a:lt1>
      <a:dk2>
        <a:srgbClr val="000066"/>
      </a:dk2>
      <a:lt2>
        <a:srgbClr val="666699"/>
      </a:lt2>
      <a:accent1>
        <a:srgbClr val="ff5050"/>
      </a:accent1>
      <a:accent2>
        <a:srgbClr val="009999"/>
      </a:accent2>
      <a:accent3>
        <a:srgbClr val="ffffff"/>
      </a:accent3>
      <a:accent4>
        <a:srgbClr val="161616"/>
      </a:accent4>
      <a:accent5>
        <a:srgbClr val="ffb3b3"/>
      </a:accent5>
      <a:accent6>
        <a:srgbClr val="008a8a"/>
      </a:accent6>
      <a:hlink>
        <a:srgbClr val="3366cc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Notebook">
  <a:themeElements>
    <a:clrScheme name="Notebook 4">
      <a:dk1>
        <a:srgbClr val="1c1c1c"/>
      </a:dk1>
      <a:lt1>
        <a:srgbClr val="ffffff"/>
      </a:lt1>
      <a:dk2>
        <a:srgbClr val="000066"/>
      </a:dk2>
      <a:lt2>
        <a:srgbClr val="666699"/>
      </a:lt2>
      <a:accent1>
        <a:srgbClr val="ff5050"/>
      </a:accent1>
      <a:accent2>
        <a:srgbClr val="009999"/>
      </a:accent2>
      <a:accent3>
        <a:srgbClr val="ffffff"/>
      </a:accent3>
      <a:accent4>
        <a:srgbClr val="161616"/>
      </a:accent4>
      <a:accent5>
        <a:srgbClr val="ffb3b3"/>
      </a:accent5>
      <a:accent6>
        <a:srgbClr val="008a8a"/>
      </a:accent6>
      <a:hlink>
        <a:srgbClr val="3366cc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66"/>
      </a:dk2>
      <a:lt2>
        <a:srgbClr val="666699"/>
      </a:lt2>
      <a:accent1>
        <a:srgbClr val="ff5050"/>
      </a:accent1>
      <a:accent2>
        <a:srgbClr val="009999"/>
      </a:accent2>
      <a:accent3>
        <a:srgbClr val="ffffff"/>
      </a:accent3>
      <a:accent4>
        <a:srgbClr val="161616"/>
      </a:accent4>
      <a:accent5>
        <a:srgbClr val="ffb3b3"/>
      </a:accent5>
      <a:accent6>
        <a:srgbClr val="008a8a"/>
      </a:accent6>
      <a:hlink>
        <a:srgbClr val="3366cc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2</TotalTime>
  <Application>LibreOffice/7.4.7.2$Linux_X86_64 LibreOffice_project/40$Build-2</Application>
  <AppVersion>15.0000</AppVersion>
  <Words>1211</Words>
  <Paragraphs>262</Paragraphs>
  <Company>Niayesh Lab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3T20:04:43Z</dcterms:created>
  <dc:creator>Majid</dc:creator>
  <dc:description/>
  <dc:language>en-US</dc:language>
  <cp:lastModifiedBy>RAYAN</cp:lastModifiedBy>
  <dcterms:modified xsi:type="dcterms:W3CDTF">2015-01-20T20:07:07Z</dcterms:modified>
  <cp:revision>17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5</vt:r8>
  </property>
  <property fmtid="{D5CDD505-2E9C-101B-9397-08002B2CF9AE}" pid="3" name="PresentationFormat">
    <vt:lpwstr>On-screen Show (4:3)</vt:lpwstr>
  </property>
  <property fmtid="{D5CDD505-2E9C-101B-9397-08002B2CF9AE}" pid="4" name="Slides">
    <vt:r8>30</vt:r8>
  </property>
</Properties>
</file>